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K-Aktivitä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2116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ädigung vo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uskel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95320" y="54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CK-Aktivitä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640" y="639684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CK = Kreatinkin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vo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skel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erzmuskel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kelettmuskel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4" idx="3"/>
            <a:endCxn id="10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8" name=""/>
          <p:cNvCxnSpPr>
            <a:stCxn id="104" idx="3"/>
            <a:endCxn id="10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1012680" y="549360"/>
            <a:ext cx="48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CK-Aktivitä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chädigung von Muskel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640" y="639684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CK = Kreatinkin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rzmuskel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3400" y="549360"/>
            <a:ext cx="72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K-Aktivität ↑ &gt; Schädigung von Muskelzellen &gt; 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erzmuskel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yokard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40" y="639684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CK = Kreatinkin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kelettmuskel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3400" y="549360"/>
            <a:ext cx="72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K-Aktivität ↑ &gt; Schädigung von Muskelzellen &gt; 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kelettmuskel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8" idx="3"/>
            <a:endCxn id="12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yos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rämpf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640" y="639684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CK = Kreatinkin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06:38:20Z</dcterms:modified>
  <cp:revision>331</cp:revision>
  <dc:subject/>
  <dc:title>Vorstellung einer Neuheit</dc:title>
</cp:coreProperties>
</file>